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4160" y="325440"/>
            <a:ext cx="6351480" cy="83329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8760" y="496800"/>
            <a:ext cx="35924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690560" y="555480"/>
            <a:ext cx="3552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90560" y="568440"/>
            <a:ext cx="3551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92720" y="581040"/>
            <a:ext cx="339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21040" y="920880"/>
            <a:ext cx="2892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21040" y="933480"/>
            <a:ext cx="2890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22120" y="946080"/>
            <a:ext cx="274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9520" y="5297400"/>
            <a:ext cx="42912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5356080"/>
            <a:ext cx="5235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5367240"/>
            <a:ext cx="682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364000"/>
            <a:ext cx="477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7320" y="5721480"/>
            <a:ext cx="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0920" y="6458040"/>
            <a:ext cx="174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0200" y="6467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9360" y="6723000"/>
            <a:ext cx="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3480" y="6997680"/>
            <a:ext cx="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57480" y="7543800"/>
            <a:ext cx="276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0480" y="5791320"/>
            <a:ext cx="5828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11520" y="5791320"/>
            <a:ext cx="5558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82720" y="6066000"/>
            <a:ext cx="352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4920" y="5943600"/>
            <a:ext cx="458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82760" y="6553080"/>
            <a:ext cx="4254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RESERV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98840" y="7016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00" y="8359920"/>
            <a:ext cx="18288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3600" y="8359920"/>
            <a:ext cx="14493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92920" y="8369280"/>
            <a:ext cx="124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P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19240" y="1981080"/>
          <a:ext cx="2819520" cy="33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1981080"/>
                    <a:ext cx="281952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033640" y="7299360"/>
            <a:ext cx="287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28600" y="8285040"/>
            <a:ext cx="163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2160" y="8285040"/>
            <a:ext cx="1213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Handwriting"/>
              </a:rPr>
              <a:t>Joseph Win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99880" y="8215200"/>
            <a:ext cx="826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Handwriting"/>
              </a:rPr>
              <a:t>W.C. C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4680" y="6761160"/>
            <a:ext cx="1301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Handwriting"/>
              </a:rPr>
              <a:t>Charlie R. Harr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0"/>
          <a:ext cx="6364440" cy="49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6364440" cy="49068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306240" y="88977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1800" y="0"/>
            <a:ext cx="13536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T STEWART G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SN 63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9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400" y="6600960"/>
            <a:ext cx="2659680" cy="582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 NOTE:  APC:  E1E2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UTHORIZATION NUMBER:  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DER NUMBER:  0430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-104760" y="0"/>
          <a:ext cx="705960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80520" y="5862600"/>
            <a:ext cx="1161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Daniel  Perr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2680" y="8494560"/>
            <a:ext cx="10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Frank F. Fo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6240" y="88977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811080" y="415800"/>
          <a:ext cx="5235840" cy="705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415800"/>
                    <a:ext cx="5235840" cy="705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276000" y="891072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82520" y="420840"/>
          <a:ext cx="6421320" cy="75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420840"/>
                    <a:ext cx="6421320" cy="75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17680" y="84916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6480" y="8869320"/>
            <a:ext cx="354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30040" y="419040"/>
          <a:ext cx="6293160" cy="81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19040"/>
                    <a:ext cx="6293160" cy="81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89080" y="87202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6480" y="8869320"/>
            <a:ext cx="354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60000" y="596880"/>
            <a:ext cx="200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INSTR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5840" y="1428840"/>
            <a:ext cx="59515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BJECTIVE:  This practical exercise will show if you have learned how to e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erve and National Guard unique documents into DM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L INFORMATION:  This exercise contains questions and documents 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ing input to DMO.  Remember to read each document and question very carefull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NDARDS:   Your answer must be in accordance with the DMO Input Gui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TERIALS REQUIRED:  DMO Input Guide, pencil and student no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E:  You have  3 class periods to complete this exerci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N YOU FINISHED:  The instructor will critique this practical exercise with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ass after everyone has completed it.  Be sure to correct your answers and you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s that are incorr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26760" y="8897760"/>
            <a:ext cx="20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92200" y="1247760"/>
            <a:ext cx="4941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What are the first three digits of a cycle number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The clerks I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The Julian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The DSSN nu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The unit payroll nu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What TIN do you use to change SGLI coverag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A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A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A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981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A PAS cod e is composed of what two things?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Site ID and U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UIC and Julian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Site ID and Julian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Julian date and unit payrol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What document is used to process a name chang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DA From 41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DA Form 7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Form W-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SGLV-82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 A DG03 TIN is processed to do wha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Collect monies for a GP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Collect monies for a SGLI deb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Collect monies from a short tou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Collect monies for a casual/parti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0240" y="1039680"/>
            <a:ext cx="533088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RUCTIONS FOR THE FOLLOWING DOCU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Review the following documents.  Input the information in the screen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ercise boo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Find the screen needed for input and complete the scree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.  Be sure to annotate the name of the screen and the screen number at the top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ch inpu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8520" y="89107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35120" y="641520"/>
          <a:ext cx="4976640" cy="32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641520"/>
                    <a:ext cx="497664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2400" y="4684680"/>
            <a:ext cx="2117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T. Stewart, GA site ID is  “L5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939960" y="415800"/>
          <a:ext cx="4978080" cy="493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415800"/>
                    <a:ext cx="49780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23960" y="433440"/>
          <a:ext cx="5400720" cy="81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3440"/>
                    <a:ext cx="5400720" cy="81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2000" y="6000840"/>
            <a:ext cx="1320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RON DANI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24680" y="6000840"/>
            <a:ext cx="1536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8      73           236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1000" y="7661160"/>
            <a:ext cx="312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4400" y="6278400"/>
            <a:ext cx="256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7360" y="7870680"/>
            <a:ext cx="3600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Daniel Perron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 1 Sep 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0640" y="7693200"/>
            <a:ext cx="276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-104760" y="0"/>
          <a:ext cx="705960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523520" y="7732800"/>
            <a:ext cx="1161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Daniel  Perr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8920" y="7802640"/>
            <a:ext cx="583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9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06080" y="1220760"/>
            <a:ext cx="58176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ollowing soldier attended a weekend drill.  Certificate of completion is attach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ron, Daniel      888-73-2366         01            **0815  thru  **08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iod attended:   **0815   0700 AM to 14:30 P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816  0700 AM to  1430 P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Joseph  W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seph W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T, IN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a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40080" y="436680"/>
            <a:ext cx="1722600" cy="247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ill Attendance Ros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7200" y="6600960"/>
            <a:ext cx="1297440" cy="582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 NO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C:  1135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0T17:17:50Z</dcterms:created>
  <dc:creator>Soldier Support Institute</dc:creator>
  <dc:description/>
  <dc:language>en-US</dc:language>
  <cp:lastModifiedBy>Administrator</cp:lastModifiedBy>
  <cp:lastPrinted>2002-02-11T22:17:32Z</cp:lastPrinted>
  <dcterms:modified xsi:type="dcterms:W3CDTF">2005-03-22T13:16:11Z</dcterms:modified>
  <cp:revision>55</cp:revision>
  <dc:subject/>
  <dc:title>No Slide Title</dc:title>
</cp:coreProperties>
</file>